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0EE-0449-4342-A761-9A380CF8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C2A-FF1A-43F6-9723-5C79DAB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74D-3875-4E83-890D-F9818709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9D2-8E42-4C1C-9542-C9EA20AA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BB4-9627-45EC-9521-84A78D1B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C25-2908-4435-ACEA-8ACFD1E6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1F8-E0A9-404D-AF6C-4791204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CFD-8BB1-4C1E-8C0A-9C3A15B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473-0182-48FF-BBB0-3F7C7EBF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E07-FD91-4F86-91A5-C0AD85C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B31-EC40-4B12-8969-F958A44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86E-04B4-45D6-82D6-3703E6EA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9ADF-AFDC-45A6-92FC-07D7A439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ach-for-sick-children.org/" TargetMode="External"/><Relationship Id="rId2" Type="http://schemas.openxmlformats.org/officeDocument/2006/relationships/hyperlink" Target="http://www.each-for-sick-children.org/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a dei Diritti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BAMBINI e delle BAMBINE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SPEDALE </a:t>
            </a:r>
            <a:br>
              <a:rPr sz="4400"/>
            </a:br>
            <a:br>
              <a:rPr sz="44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e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ACH - European Associatio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ildren in Hospital</a:t>
            </a:r>
            <a:br>
              <a:rPr sz="1800"/>
            </a:br>
            <a:r>
              <a:rPr b="0" lang="it-IT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each-for-sick-children.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ambini o bambine saranno seguiti da uno staff adeguatamente preparato in grado di affrontare i bisogni fisici, emotivi, e di crescita dell'intero nucleo familiar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ontinuità e costanza nelle cure sarà assicurata dall'equipe del repar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ambini e bambine ricoverati saranno trattati con tatto e comprensione; la loro privacy sarà rispettata in ogni momen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dei diritti fondamentali, soprattutto dei bambini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l diritto alle migliori cure mediche possibili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ESCO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n bambino o una bambina saranno ricoverati in ospedale solo se le cure di cui hanno bisogno non possono essere assicurate, con la stessa efficacia, a casa o in regime di day hospit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Un bambino o una bambina ricoverati in ospedale avranno diritto alla vicinanza dei propri genitori o di altre persone amiche in ogni momento della giorna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genitori verranno accolti all'interno del reparto e saranno aiutati e incoraggiati a rimanervi. Essi saranno messi in condizione di non dover affrontare spese aggiuntive o subire perdite economiche. Per partecipare alla cura del proprio figlio, i genitori saranno informati riguardo ai tempi e ai ritmi della vita del reparto e la loro attiva collaborazione sarà incoraggi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ambini e genitori hanno diritto a ricevere informazioni in modo adeguato alle proprie conoscenze e capacità di comprensione. Il personale cercherà di minimizzare lo stress fisico ed emotivo conseguente al ricovero ed alla lunga ospedalizzazion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mbini e genitori hanno il diritto a partecipare consapevolmente alle decisioni sanitarie che li riguardano. Ad ogni bambino o bambina saranno evitate cure mediche ed esami superflu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Un bambino o una bambina ricoverati saranno curati assieme ad altri bambini che hanno le stesse esigenze di crescita e sviluppo e non saranno inseriti in reparti per adulti. Non viene posto nessun limite all'età dei visitatori dei bambini ricovera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Un bambino o una bambina ricoverati avranno la possibilità di giocare, divertirsi e lavorare in maniera adeguata alla loro età e condizione medica. Avranno la possibilità di vivere in un ambiente pensato e attrezzato per le loro esigenze in questo sens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20:10:04Z</dcterms:created>
  <dc:creator>Ispettore Luigi Torchio - Dir. Scol. Reg. FVG</dc:creator>
  <dc:description/>
  <dc:language>en-US</dc:language>
  <cp:lastModifiedBy>bullo</cp:lastModifiedBy>
  <dcterms:modified xsi:type="dcterms:W3CDTF">2003-01-28T16:56:01Z</dcterms:modified>
  <cp:revision>2</cp:revision>
  <dc:subject/>
  <dc:title>Carta dei Diritti  dei BAMBINI e delle BAMBINE  in OSPEDALE </dc:title>
</cp:coreProperties>
</file>